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D0A4-F912-4F9C-BC89-1693687C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DC29-F673-4A6C-87AC-73EE42D1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145-C133-49A6-B77B-F3E69DBF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A50-DC25-4862-AFA3-CB7AAE25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42A1-76F4-4FD6-86C9-1A65B427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611E-4513-42E7-95AE-87546AFA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AE61-73DF-4BDC-9113-8075E550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81D2-425D-410E-AEBD-87D3FA14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3FD7-ADAE-47D9-9A43-E8046661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5655-A20A-4563-B198-515E78D0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D52F-9DA0-4D3C-A917-5A215B5B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5BB9-C34C-47D0-A611-F6E080BC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D622-5CDA-472D-9062-295A5F2E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E5B6-409B-4C60-97C4-5C676B5D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97DC-606F-489F-B707-8E3F4857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F98E-802F-4454-9565-939F419D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60CC-6134-44B2-A04E-7CF15DFC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EFD9-03DD-4701-8CEE-F9F3CAE9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CF2-E67D-499C-8F34-74F2612C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9BD9-9E9F-4933-B3CF-A6F93F55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648-0F84-46F5-B20D-40B5D875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085-E437-4298-A6D0-D423BCE0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EFA-2E40-4519-A837-62F35412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E6B-84C1-4F66-B2F7-1639385D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9863-3DA7-4411-A47F-71F6555D052E}" type="slidenum">
              <a:rPr b="0" lang="lt-L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A0A2-EB53-4DE7-890D-3E2B1B6B1B6B}" type="slidenum">
              <a:rPr b="0" lang="lt-L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SMENYBĖS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78040" y="3781440"/>
            <a:ext cx="604512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INDIVIDUALIOJI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ADLER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nkavertiškumo jausmas, komplek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Organų menkavertišku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erdėta glo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Atstūmi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anašumo siek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yvenimo stili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dominavimo gyvenimo stili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gavimo gyven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veng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socialiai naudingas gyven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INDIVIDUALIOJI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ADLER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is inte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imimo eilišku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irmas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tras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Jauniausia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enintel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BIHEVIORISTINĖS ASMENYBĖS TEORIJO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.Pavlovas: klasikinis sąlygoj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prantinio elgesio teorija (B.F.Skinner): operantinis sąlygojimas, pastiprinimo sch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HUMANISTINĖS PSICHOLOGIJOS ASMENYBĖS TEORIJOS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ROGER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Organizmas ir bazinė tendencija aktualizuo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tyrimų (fenomenų) lauk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š ir Aš suvok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eigiamo vertinimo poreikis ir sąlyginis vert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esąlyginis teigiamas vert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HUMANISTINĖS PSICHOLOGIJOS ASMENYBĖS TEORIJOS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MASLOW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oreikių hierarch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5.Saviaktualizacijos poreik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4.Poreikis pagarb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3.Poreikis priklausyti ir meilės poreik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2.Saugumo poreik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1.Fiziologiniai poreiki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SOCIALINIO MOKYMOSI TEOR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BANDUR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deliavimas: modelio charakteristikos, stebėtojo charakteristikos, su elgesiu susiję paskatini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ys, įsiminimas, atgaminimas, paskat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vęs pastipr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vo efektyvumo vert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Z.Froida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60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Z.Froidas: asmenybės struktūra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6000" y="1988640"/>
            <a:ext cx="5832360" cy="3745440"/>
            <a:chOff x="1476000" y="1988640"/>
            <a:chExt cx="5832360" cy="3745440"/>
          </a:xfrm>
        </p:grpSpPr>
        <p:sp>
          <p:nvSpPr>
            <p:cNvPr id="102" name=""/>
            <p:cNvSpPr/>
            <p:nvPr/>
          </p:nvSpPr>
          <p:spPr>
            <a:xfrm rot="10800000">
              <a:off x="1476000" y="1988280"/>
              <a:ext cx="5832360" cy="3745080"/>
            </a:xfrm>
            <a:custGeom>
              <a:avLst/>
              <a:gdLst>
                <a:gd name="textAreaLeft" fmla="*/ 1282320 w 5832360"/>
                <a:gd name="textAreaRight" fmla="*/ 4550040 w 5832360"/>
                <a:gd name="textAreaTop" fmla="*/ 823320 h 3745080"/>
                <a:gd name="textAreaBottom" fmla="*/ 2921760 h 374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79760" y="2702160"/>
              <a:ext cx="36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64400" y="3593880"/>
              <a:ext cx="425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52440" y="2167200"/>
              <a:ext cx="126072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52440" y="2880360"/>
              <a:ext cx="189144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Prieš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37080" y="3772080"/>
              <a:ext cx="2206800" cy="71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Pa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209760" y="1989000"/>
              <a:ext cx="1103400" cy="3745080"/>
            </a:xfrm>
            <a:prstGeom prst="line">
              <a:avLst/>
            </a:prstGeom>
            <a:ln w="284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83160" y="4128840"/>
              <a:ext cx="2994840" cy="0"/>
            </a:xfrm>
            <a:prstGeom prst="line">
              <a:avLst/>
            </a:prstGeom>
            <a:ln w="284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28880" y="2880360"/>
              <a:ext cx="1418400" cy="71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EG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71200" y="4489200"/>
              <a:ext cx="1733760" cy="89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03480" y="3950640"/>
              <a:ext cx="1418400" cy="12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SUP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EG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FROIDO PSIHOANALITINĖ ASMENYBĖS TEORIJ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struktūra: id, Ego, Supe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Id: malonumo principas, refleksyvūs veiksmai, pirminiai proces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Ego (Aš): realybės principas, antriniai psichiniai proces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uperego: introjekcijos mechaniz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FROIDO PSIHOANALITINĖ ASMENYBĖS TEORIJ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e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go gynybiniai mechanizm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šstūmi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rojek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Reakcijos formavi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Fiksa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Regres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dentifika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akeitimai (pvz., sublimacij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smenybės raidos stadijos pagal </a:t>
            </a:r>
            <a:br>
              <a:rPr sz="3200"/>
            </a:b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</a:t>
            </a: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Froidą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ystymosi stadi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Oralinė (nuo gimimo iki 18 mėn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alinė (18 mėn. – 3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Falinė (3-6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Edipo, Elektros kompleks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Latentinė (6-12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Genitalinė (ėmus lytiškai bręs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041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NALITINĖ (gelmių)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G. JUNG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struktūra: Ego, individuali pasąmonė, kolektyvinė pasąmo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lektyvinė pasąmonė: archetip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ima ir Ani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Šešėl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avas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NALITINĖ (gelmių)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G. JUNG 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kstraversija ir intravers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ąstymas, jausmai, pojūčiai ir intui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vystym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aikystė ir jaunyst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dutinis amžius ir senatv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2:59:09Z</dcterms:created>
  <dc:creator>TADAS</dc:creator>
  <dc:description/>
  <dc:language>en-US</dc:language>
  <cp:lastModifiedBy> </cp:lastModifiedBy>
  <dcterms:modified xsi:type="dcterms:W3CDTF">2007-11-06T14:30:22Z</dcterms:modified>
  <cp:revision>17</cp:revision>
  <dc:subject/>
  <dc:title>INDIVIDAS IR ASMENYBĖ</dc:title>
</cp:coreProperties>
</file>